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017D-FBD4-4B0C-8EDC-B3E1025A4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475-96A2-4C60-8027-E7C0DC2C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199-FFF7-428A-A92A-4F25F2C1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938-7738-4124-984A-D5A34D36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58F3-4529-47F7-B4F1-438FAE9A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8C38-A342-4E00-AAB8-3335D2C2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C8D2-5DE7-4EAF-9408-C495E47F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54AD-F5E9-43BB-BE2E-CB60CD87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898A-6D84-4579-80F4-629264E6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2175-AEE0-4610-B716-1DFF516A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CEFE-D25C-44F1-98E7-3FE6AC7C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CDB6-2948-4249-A23E-D414AAA5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D399-061F-4EF5-91D6-A0E94B37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E6EA-642C-4667-A543-77B6148A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7CB6-DF77-48E6-84AA-5EC67128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55E1-E952-4D28-8596-CA051D62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021D-1025-4125-8BB6-5A29E1B2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226A-BB51-47CF-B706-299E9D9D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C5C-8DBC-48DD-A15B-DC627CF6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2BF-DBFA-468E-A38C-2B75C182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58C-93C3-4BB8-9C8E-3C13495C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3A72-5C78-41CF-BC9A-A8E304DE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BBB-A83F-45ED-83EC-296DD696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B7B-DDC1-42AE-A6DA-62454FA9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84F-26B9-4494-8563-49E144E3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0F08-DF55-46AA-8FF4-7250CEDEDF0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4737-9517-43B3-BF86-5BB9FFD7B4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 Multi-Mode Selectable DC-DC Converter for Ultralow Power Circuits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rnie Bowd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oug Sorens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ject Motiv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24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32136" b="19629"/>
          <a:stretch/>
        </p:blipFill>
        <p:spPr>
          <a:xfrm>
            <a:off x="2133720" y="2438280"/>
            <a:ext cx="4800600" cy="3587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5760000"/>
            <a:ext cx="80773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 Unicode MS"/>
              </a:rPr>
              <a:t>Quantization effect.  Dashed line represents four voltage sources with dithering.  Lowest energy line is a voltage supply with infinite output values [1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V. Gutnik and A. Chandrakasan, “Embedded Power Supply for Low-Power DSP</a:t>
            </a:r>
            <a:r>
              <a:rPr b="0" i="1" lang="en-US" sz="1000" spc="-1" strike="noStrike">
                <a:solidFill>
                  <a:srgbClr val="003366"/>
                </a:solidFill>
                <a:latin typeface="Arial"/>
              </a:rPr>
              <a:t>”, IEEE Transactions on Very Large Scale Integration (VLSI) Systems,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December 1997, Vol. 5, No. 4, pp 425-436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witched Capacitor Concep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68600" y="2568600"/>
          <a:ext cx="42321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8600" y="2568600"/>
                    <a:ext cx="42321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witched Capacitor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819520" y="2438280"/>
          <a:ext cx="294300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438280"/>
                    <a:ext cx="294300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near Regulator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35053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lection Log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3174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ltage Cur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5023" t="15155" r="7294" b="6753"/>
          <a:stretch/>
        </p:blipFill>
        <p:spPr>
          <a:xfrm>
            <a:off x="1752480" y="2666880"/>
            <a:ext cx="5334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ffects of Load Current on Output Voltage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5554" t="15817" r="8152" b="6048"/>
          <a:stretch/>
        </p:blipFill>
        <p:spPr>
          <a:xfrm>
            <a:off x="2133720" y="2438280"/>
            <a:ext cx="49528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witched Capacitor Efficiencies in 65nm PT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7455" t="18529" r="8679" b="6248"/>
          <a:stretch/>
        </p:blipFill>
        <p:spPr>
          <a:xfrm>
            <a:off x="4876920" y="4191120"/>
            <a:ext cx="4114800" cy="234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5101" t="18601" r="7601" b="6735"/>
          <a:stretch/>
        </p:blipFill>
        <p:spPr>
          <a:xfrm>
            <a:off x="914400" y="2514600"/>
            <a:ext cx="39625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3:56:33Z</dcterms:created>
  <dc:creator>Ernest Bowden</dc:creator>
  <dc:description/>
  <dc:language>en-US</dc:language>
  <cp:lastModifiedBy>Ernest Bowden</cp:lastModifiedBy>
  <dcterms:modified xsi:type="dcterms:W3CDTF">2007-12-04T18:31:53Z</dcterms:modified>
  <cp:revision>8</cp:revision>
  <dc:subject/>
  <dc:title>A Multi-Mode Selectable DC-DC Converter for Ultralow Power Circuits </dc:title>
</cp:coreProperties>
</file>